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62B-815B-4688-AF48-7DD8338C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AA3-BD19-4DB8-BDA4-20B51802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DCD-D049-4BCE-83D6-46A7FBE5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969-B668-4602-8F41-79E62FF9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84E2B-11E6-4115-961B-EAAAA134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1D299-3ACB-469A-BA70-2C1611CB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615BB-7FD1-497C-B681-AA2C7950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587D0-CC60-4580-A700-37FC1C09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02AA1-2E9C-4892-9C83-9C633759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84573-1100-4326-A295-152A1064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67265-14EA-4373-BE25-E6B26FAE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9A3-0736-4832-BCE5-960F88D2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DF0C9-FEEA-43FC-9A9F-B17E5B57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FEB20-4A71-4281-A383-98910166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48CE3-79B4-4391-B6D6-E50E8EE4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D66E3-7FD3-4D67-BA56-382765D2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A0114-6BC4-4C82-81E7-288AB20C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423-1EEA-434D-BB56-4ADCBFFA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376B-0338-4521-B844-48B2DF45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06F-7D6D-476D-85D7-6EFCC805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271-19FC-49D5-A450-3B12B228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A3D-5FE2-4596-9DC6-99BCB6D0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6B4-DDCB-4517-ABDA-CC7171D0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C3E0-8E5C-43B7-B618-35016147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8E68-5176-4698-B547-DFB04A1151B2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15D2-A5C1-4E18-B10F-78A71EFF897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ADD7-F311-4839-85F0-AFD81973AD29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E4AF-3D7D-4DB8-B3D0-722094B5FF7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981000"/>
            <a:ext cx="799128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3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FRAS 6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تنقيب عنه وتقييم الموارد التعدينية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6108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C134B-07BE-4DCB-96FE-1486B9E760D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 يتم الاعتراف بالمصروفات التى تتحملها المنشأة من أجل تطوير الموارد التعدينية باعتبارها كأصول تنقيب و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F7C-5D5A-4D5A-B579-ED58D07FE7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1412640"/>
            <a:ext cx="4629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بويب أصول التنقيب والتقييم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ملموسة مثل : سيارات ، حفا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غير ملموسة مثل : حقوق الح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DD19-47C3-45F1-80F0-E1140232DDF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تكون القيمة الدفترية لهذه الاصول أكبر من قيمتها الاستردادية، وفى تلك الحالة يتم الاعتراف بأى خسائر كمصروفات تدرج ضمن قائمة الد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×××      من حـ/ المصرو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                 ×××     الى حـ/ مجمع الاستنفا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ويسمى ذلك باختبار الاضمحلال أو القابلية للتغطية أو الانخفا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620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إنخفاض قيمة أصول التنقيب والتقييم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0F0-5CD5-4080-BD40-562B8F0EE8B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لى المنشأة الإعتراف بأى التزامات تتعلق بالازالة والتجديد التى تكبدتها خلال فترة محددة كنتيجة لقيامها بالتنقيب عن وتقييم الموارد التعدينية.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D19-AF13-4D0E-9A13-FD863631FCE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جب على المنشأة الافصاح ع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سياستها المحاسبية فى معالجة نفقات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قيم الاصول والالتزامات والايراد والمصروف والتدفقات النقدية من أنشطة التشغيل والاستثمار الناتجة عن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جـ - معالجة أصول التنقيب والتقييم كأصول مستقلة وأنه يتم الافصاح عنها فى حالة إذا كانت أصول ملموسة أو غير ملموس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CF9-43F8-44C2-810D-F5E29F4F536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مصروف الاستنفاذ = ـ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× عدد الوحدات المنتجة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3259080"/>
            <a:ext cx="493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نفقات التى تكبدتها المنشأة فى سبيل التنقيب والتقييم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933720"/>
            <a:ext cx="39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جمالى كمية الانتاج المتوقع انتاجها بالوحدات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773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* كيفية احتساب الاستنفاذ 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F8E69-5D6F-4ADF-9911-6FB41795AB4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748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طلـوب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:-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قيمة مصروفات الاستنفا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قيود اليومية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صافى قيمة الأصل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ال توضيحى :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قامت إحدى شركات الاستكشاف عن البترول بتكبد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جنيه مصرى فى سبيل التنقيب عن أحد آبار البترول بالصحراء الغربية، وقد كانت كمية الانتاج المتوقع استخراجها طبقاً للدراسة الهندس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، وعند الرجوع لدفاتر الشركة اتضح أن كمية الوحدات المنتجة خلال العام المالى المنته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تقدر بـ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AB6C-F6F7-4753-BEED-9F1E45F0282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4000" y="475920"/>
            <a:ext cx="1882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حــل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 الاستنفاذ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= ــــــــــــــــــــــــــــــــــــ ×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=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قيود اليومية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أصول التنقيب والتقيي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النقد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              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مصروف الاستفاذ – قائمة الدخ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مجمع الاستنفاذ - ميزان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صافى قيمة الأصل فى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تكلفة أصول التنقيب والاستكشا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(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)          مجمع الاستنف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45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  صافى قيمة الاصل فى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3760" y="14130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299-0DA8-43D9-BD7A-F9CC8E9AC56B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280" y="22824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مقصود بنفقات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ى النفقات التى تتكبدها المنشأة والمتعلقة بالتنقيب عن وتقييم الموارد التعدينية قبل أن تتضح الجدوى الفنية والفائدة التجارية لاستخراج الموارد التعدي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57F-7375-49A4-AF53-C311E0AE47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</a:rPr>
              <a:t>المقصود بالتنقيب عن وتقييم الموارد التعدينية:-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و البحث عن الموارد التعدينية والموارد غير المتجددة بعد حصول المنشأة على الحقوق القانونية للتنقيب فى  منطقة محددة وكذلك تحديد الجدوى الفنية والفائدة التجارية منه إستخراج المورد التعدين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مثال على ذلك : المعادنة – البترول – الغاز الطبيع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F527-DAFB-40D2-B7F0-7D1DC45EC34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060640"/>
            <a:ext cx="77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يعترف بنفقات التنقيب والتقييم كأصول طبقاً للسياسة المحاسبية للمنشأ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65B-8E82-4B14-9D7A-14C560E33C3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طبق هذا المعيار على النفقات التى تكبدتها المنشأة فى سبي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9E2-97A5-44F0-A79B-9C9682AC788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00"/>
                </a:solidFill>
                <a:latin typeface="Arial"/>
              </a:rPr>
              <a:t>لا تطبق المنشأة هذا المعيار فى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قبل التنقيب عن وتقييم الموارد التعدينية مثل النفقات المتكبدة قبل حصول المنشأة على الحقوق القانونية للتنقيب فى منطقة محد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بعد أن تظهر بوضوح الجدوى الفنية والقدرة التجارية لاستخراج الموارد التعدين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A13-53B2-4EC4-9356-D4B295669DB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4360" y="169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قياس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اس الأولــــى : بالتكلف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ـاس اللاحـــق : إعادة تقييم ا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4D0-7962-41C0-810D-7015134D63C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عناصر تكاليف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هى التكاليف التى تساهم فى إكتشاف موارد تعدينية مث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صول على حقوق ا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دراسة الطبوغرافية والجيولو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فر ل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حفر الآبا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خذ العي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انشطة المرتبطة بتقييم الجدوى الفنية والقدرة التجار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00C-3181-4957-8511-B00397F20D7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تغيير فى السياسات المحاسبية فى حالة تغيير المنشأة لسياستها المحاسبية فيما يتعلق بنفقات التنقيب والتقييم فيجب عليها أ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تفصح عن أسباب ذل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أثر ذلك على القوائم الما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591-79FF-41DE-802B-95FA25E1C1C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4:11:57Z</dcterms:created>
  <dc:creator>h.awadain</dc:creator>
  <dc:description/>
  <dc:language>en-US</dc:language>
  <cp:lastModifiedBy>k.refaat</cp:lastModifiedBy>
  <dcterms:modified xsi:type="dcterms:W3CDTF">2006-11-06T13:07:48Z</dcterms:modified>
  <cp:revision>18</cp:revision>
  <dc:subject/>
  <dc:title>المقصود بنفقات التنقيب والتقييم: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